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013-EEC9-4854-9644-59D03D1F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D6C-3C10-403B-B8C4-B6740241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2ED-6BE2-4639-97CE-DE43F442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785-6BFE-4911-A7CE-4A033CFC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4A983-6F55-492E-8732-915383B4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75488-98AC-4544-A388-CF3244B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2B71D-36F0-49DF-AC74-E88F5E2F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47865-AF35-4906-BB7E-B9880948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4A129-86B0-4AEC-BECF-90649E04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641C6-1313-4E8D-B5F9-2B914E85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8C154-7BC6-4324-ADD8-CB0D54C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05F-3DCA-45D5-B001-CE6978EF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52ADE-002A-4E31-A9E7-99D829D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2EB4B-1A44-4A29-A515-927E7C5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651E1-964B-4A82-9FCC-5613595A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FCFA8-3252-47CE-B33E-0BDCB1B0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5FC64-1F72-4840-98A9-A0863961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8E91C-F876-4F55-B970-793EC090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EAC2E-36D8-4A31-8B9F-E162D322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5E50A-F6D3-4DF3-9C90-4B95206A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169F5-6347-4224-B91B-D176C225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7E85B-E513-4A9B-9A10-A86F7C47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7EE-4D32-475A-9CE3-B9CCBB4A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C87B8-10C4-4613-A8C7-246BFA72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01CD1-8BCC-4135-98AF-5C536B80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D066D-D128-4E35-8DB9-0E009FC0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0FBF9-7DF1-4252-9591-D074FFF1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85A73-4E11-4553-AF5E-EB82A89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2EE68-B8BC-47CA-8404-59488D2E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DC63A-6642-449B-BE7C-B4BA65CF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F901A-B399-4FF3-87A5-560EBFC0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9C7B3-457E-4F42-9E82-C03C2547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AD9C7-4873-408C-BF41-24C78C5B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B87-FB38-48B2-83B1-97A6D5F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DB5CF-F705-43B1-A19F-7D037E95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C688E-B3A5-495B-8DC4-84E8699C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13A25-E8BB-40BE-8FBA-BBC848F2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B2196-AEBD-4CD1-B94A-F9BD464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F9BEC2-736D-4AB2-81CB-1026752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BBBA2-C17E-41C1-8D72-B49F068C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C2E32-567B-4B27-829D-9D1AC20D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A88E6-217A-45F8-AB4C-CBDE184C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798E9-E84C-4B09-8748-A65D0F3F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D1E39-8927-4DFF-A984-32FCC70C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31C-316A-4DFD-BEC2-10A6BDCE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EC371-EA61-49F7-A78C-A6A04D76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363FD-18E0-4EB4-A173-475AE3F0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028CC-C121-453A-A48D-FF4695B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54018-DB61-41DE-8878-FBE34B6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BAB37-9FC0-4BE5-8A3E-D063FFEC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2ACFA-51DD-4A2A-A0B6-A0E4461E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26EDB-662C-4C89-9D73-38730D19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276DB-A53D-4DDE-B4EE-8C2D8FB3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A8CDE-DC88-464E-BDCE-A15007C9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69A32-48D4-42F0-942B-6979F964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52B-1FE2-45C1-8EF4-2D383015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FF951-F106-491C-9105-25ADBF39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2FC0D-F933-4A08-979C-189ABEEA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01457-553C-4764-9A84-8E27E9B5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CAF54-55D1-4354-8A13-3645BEA9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C6715-C2C7-4BA2-B85F-9D2EAFFF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33184-70D4-4BF9-8711-2C54CAFF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F9DEC-BC3E-4CE5-8177-B39E54C4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3EA5A-540C-4F4A-B117-317F72B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E44EC-EEE0-4256-97A3-0CDDFE1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6D249-7DD8-4F9F-B8D9-ECFDDEB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33D-B9A7-4009-A682-AB10BE9A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EC447-78FF-45C0-96AD-1F07DD3A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C8BB9-A3C6-4C8F-BB69-939A1660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3BD79-2B22-49CE-96E7-CAB70F16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921-8B57-445C-9152-FED22D53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7ED-A2E1-487F-9D46-54E7C14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2CFD-35E9-4F73-9E5C-3E9CD86C4D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0A63-4B97-4230-83A7-4385A5C288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30CE-FD5C-4833-B06F-C8088DA61B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8CD1-F1B2-4236-A8BE-0E7FFAB58A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F3B1-2D0E-4231-B8D8-410B784F53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45D0-287A-4969-888E-A2A6D02235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Activity Page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Not your teacher’s worksheet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62120" y="685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simply a place for children to record answ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first and foremost about assessment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6" name="Picture 2" descr="http://2.bp.blogspot.com/-K7PSnuhkARI/TWCj5kEVqCI/AAAAAAAAAHk/Xn94hw9r4nE/s1600/Picture3.jpg"/>
          <p:cNvPicPr/>
          <p:nvPr/>
        </p:nvPicPr>
        <p:blipFill>
          <a:blip r:embed="rId1"/>
          <a:stretch/>
        </p:blipFill>
        <p:spPr>
          <a:xfrm>
            <a:off x="3733920" y="152280"/>
            <a:ext cx="49003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1760" y="6858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replace interactions with real thing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give representations that are themselves model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1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61760" y="40176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a source of new inform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where vocabulary is introduc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514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45720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the activity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replace teacher guid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4" descr="http://www.kidzone.ws/science/tornado/experiment-tornado.gif"/>
          <p:cNvPicPr/>
          <p:nvPr/>
        </p:nvPicPr>
        <p:blipFill>
          <a:blip r:embed="rId1"/>
          <a:stretch/>
        </p:blipFill>
        <p:spPr>
          <a:xfrm>
            <a:off x="3200400" y="152280"/>
            <a:ext cx="2666880" cy="355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900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685800"/>
            <a:ext cx="2438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facilitate the use of science processes, such as observation and communication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an activity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935080" cy="3911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6091200" y="2743200"/>
            <a:ext cx="2852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1760" y="685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help students organize and process their idea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3" name="Picture 4" descr="http://www.getworksheets.com/samples/worksheets/science/scigrqaph.gif"/>
          <p:cNvPicPr/>
          <p:nvPr/>
        </p:nvPicPr>
        <p:blipFill>
          <a:blip r:embed="rId1"/>
          <a:stretch/>
        </p:blipFill>
        <p:spPr>
          <a:xfrm>
            <a:off x="5668920" y="228600"/>
            <a:ext cx="312264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1805040" y="3581280"/>
            <a:ext cx="2900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Picture 2" descr="Kindergarten Earth Science Worksheet Printable"/>
          <p:cNvPicPr/>
          <p:nvPr/>
        </p:nvPicPr>
        <p:blipFill>
          <a:blip r:embed="rId1"/>
          <a:stretch/>
        </p:blipFill>
        <p:spPr>
          <a:xfrm>
            <a:off x="658800" y="476280"/>
            <a:ext cx="4003560" cy="5181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Kindergarten Five Senses Worksheet for Kids Printable"/>
          <p:cNvPicPr/>
          <p:nvPr/>
        </p:nvPicPr>
        <p:blipFill>
          <a:blip r:embed="rId2"/>
          <a:stretch/>
        </p:blipFill>
        <p:spPr>
          <a:xfrm>
            <a:off x="4800600" y="228600"/>
            <a:ext cx="3651120" cy="47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3"/>
          <a:stretch/>
        </p:blipFill>
        <p:spPr>
          <a:xfrm>
            <a:off x="4849920" y="228600"/>
            <a:ext cx="3601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4:03:23Z</dcterms:created>
  <dc:creator>Information  Technology</dc:creator>
  <dc:description/>
  <dc:language>en-US</dc:language>
  <cp:lastModifiedBy>Information  Technology</cp:lastModifiedBy>
  <dcterms:modified xsi:type="dcterms:W3CDTF">2013-09-05T14:50:12Z</dcterms:modified>
  <cp:revision>1</cp:revision>
  <dc:subject/>
  <dc:title>Activity Pages</dc:title>
</cp:coreProperties>
</file>